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B0215-E928-4BB8-9717-B9C1B2CBB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EF0F8-A7EF-415A-9EAD-F283A8C8C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4BAC8-5593-4243-B2A2-5C3D2E8CE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9E200-9D68-459D-B664-9F7E902F4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632DF-14BF-4289-A152-31995099F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56E88-43F3-4169-81FD-3B34C4F64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CFE4A-2494-4259-88A4-E2A3D96B4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C87CE-0EFE-4C59-ADE8-F2C5DEF2A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3DE00-119C-4B17-8C5A-727865DF9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EEBDB-482C-4498-ACA7-B6F077EBF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96E71-2F4E-4A51-94F0-3E334D197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2688C-FE32-476B-AF14-D48955409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56FBE-9F9D-4084-A755-701A750F6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17847-A183-4BED-8BB4-B818C8062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1681D-0B33-4BB5-8F9B-796EB03D1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883A1-7407-41E9-A27A-DD143AFC8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AA54A-2B2A-45F0-BD5E-E1F399BA5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7E15D-1EF5-456C-82C0-29945ACA6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0768C-E4FA-44ED-8147-9F6D5C0FF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BD064-5464-4A30-8858-5D9189177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6EF3D-8B8C-4D16-9A23-F5554577E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83910-6675-48A4-979C-A28281306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E7580-862F-41B2-9E1C-24F135E72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298BD-DBDB-413C-9645-783095153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70489-95AB-48CF-A25F-588B6F6D1287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731B6-0F70-490C-AB38-9A59AC83C45E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alifetimeofcolor.com/study/images/light_dark_shifts.gif" TargetMode="External"/><Relationship Id="rId2" Type="http://schemas.openxmlformats.org/officeDocument/2006/relationships/hyperlink" Target="http://www.alifetimeofcolor.com/study/images/after_image.gif" TargetMode="External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Comic Sans MS"/>
              </a:rPr>
              <a:t>Colour</a:t>
            </a:r>
            <a:endParaRPr b="0" lang="en-US" sz="8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371240" y="3962160"/>
            <a:ext cx="652788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dff"/>
                </a:solidFill>
                <a:latin typeface="Comic Sans MS"/>
              </a:rPr>
              <a:t>In the Elementary Classroom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By: Susan, Lisa, Karrie, Nadine,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arah, Catherine, and Marci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981080" y="2895480"/>
            <a:ext cx="6324840" cy="365148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304920"/>
            <a:ext cx="6870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What is Colour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106668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duced when light strikes an object, and reflects back int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your eyes.  There are three properties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Hu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– The name of a colour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Intensity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– The brightness or dullness of a colour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Valu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– The lightness or darkness of a colour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752480" y="3276720"/>
            <a:ext cx="6191280" cy="331632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Primary &amp; Secondary Colou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83059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rimary colours are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Secondary colours ar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red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1" lang="en-US" sz="1800" spc="-1" strike="noStrike">
                <a:solidFill>
                  <a:srgbClr val="703dff"/>
                </a:solidFill>
                <a:latin typeface="Comic Sans MS"/>
              </a:rPr>
              <a:t> blue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1" lang="en-US" sz="1800" spc="-1" strike="noStrike">
                <a:solidFill>
                  <a:srgbClr val="ffef66"/>
                </a:solidFill>
                <a:latin typeface="Comic Sans MS"/>
              </a:rPr>
              <a:t>yellow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1" lang="en-US" sz="1800" spc="-1" strike="noStrike">
                <a:solidFill>
                  <a:srgbClr val="ffb800"/>
                </a:solidFill>
                <a:latin typeface="Comic Sans MS"/>
              </a:rPr>
              <a:t>orange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en-US" sz="1800" spc="-1" strike="noStrike">
                <a:solidFill>
                  <a:srgbClr val="00b200"/>
                </a:solidFill>
                <a:latin typeface="Comic Sans MS"/>
              </a:rPr>
              <a:t>green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, and </a:t>
            </a:r>
            <a:r>
              <a:rPr b="1" lang="en-US" sz="1800" spc="-1" strike="noStrike">
                <a:solidFill>
                  <a:srgbClr val="990099"/>
                </a:solidFill>
                <a:latin typeface="Comic Sans MS"/>
              </a:rPr>
              <a:t>violet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ey can not be created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    They are produced by mixin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y mixing other colours.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Two primary colours in equal portions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"/>
          <p:cNvSpPr/>
          <p:nvPr/>
        </p:nvSpPr>
        <p:spPr>
          <a:xfrm>
            <a:off x="6248520" y="563868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Greg Percy’s     Colour So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8001000" y="57913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" restart="whenNotActive" nodeType="interactiveSeq" fill="hold">
                <p:stCondLst>
                  <p:cond evt="onClick">
                    <p:tgtEl>
                      <p:spTgt spid="160"/>
                    </p:tgtEl>
                  </p:cond>
                </p:stCondLst>
                <p:childTnLst>
                  <p:par>
                    <p:cTn id="16" fill="hold">
                      <p:stCondLst>
                        <p:cond evt="onClick">
                          <p:tgtEl>
                            <p:spTgt spid="160"/>
                          </p:tgtEl>
                        </p:cond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" dur="120033" fill="hold"/>
                                        <p:tgtEl>
                                          <p:spTgt spid="1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6870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Tertiary Colou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mbinations of primary and secondary colour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x tertiary colours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d-orang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ellow-orange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ellow-green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lue-green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lue violet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d-viole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4495680" y="2514600"/>
            <a:ext cx="3733920" cy="3733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6019920" y="3886200"/>
            <a:ext cx="1876320" cy="243828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1828800" y="4114800"/>
            <a:ext cx="2014560" cy="210492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61760" y="228240"/>
            <a:ext cx="6870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ool &amp; Warm Colou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09480" y="990720"/>
            <a:ext cx="76964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Cool Colour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– (Ex: </a:t>
            </a:r>
            <a:r>
              <a:rPr b="1" lang="en-US" sz="2000" spc="-1" strike="noStrike">
                <a:solidFill>
                  <a:srgbClr val="00b200"/>
                </a:solidFill>
                <a:latin typeface="Comic Sans MS"/>
              </a:rPr>
              <a:t>Green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en-US" sz="2000" spc="-1" strike="noStrike">
                <a:solidFill>
                  <a:srgbClr val="703dff"/>
                </a:solidFill>
                <a:latin typeface="Comic Sans MS"/>
              </a:rPr>
              <a:t>Blu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, &amp; </a:t>
            </a:r>
            <a:r>
              <a:rPr b="1" lang="en-US" sz="2000" spc="-1" strike="noStrike">
                <a:solidFill>
                  <a:srgbClr val="990099"/>
                </a:solidFill>
                <a:latin typeface="Comic Sans MS"/>
              </a:rPr>
              <a:t>Violet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) Called 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cool”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due to their resemblance of cool objects such as a damp forest or a lake.  These colours are said to calm and relax the viewer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Warm Colour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– (Ex: </a:t>
            </a: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Red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ffb800"/>
                </a:solidFill>
                <a:latin typeface="Comic Sans MS"/>
              </a:rPr>
              <a:t>Orang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, &amp; </a:t>
            </a:r>
            <a:r>
              <a:rPr b="1" lang="en-US" sz="2000" spc="-1" strike="noStrike">
                <a:solidFill>
                  <a:srgbClr val="ffef66"/>
                </a:solidFill>
                <a:latin typeface="Comic Sans MS"/>
              </a:rPr>
              <a:t>Yellow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) Called 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arm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” due to their resemblance of warm objects such as the sun, or fire.  These colours are said to arouse or stimulate the viewer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Note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en-US" sz="2000" spc="-1" strike="noStrike">
                <a:solidFill>
                  <a:srgbClr val="996600"/>
                </a:solidFill>
                <a:latin typeface="Comic Sans MS"/>
              </a:rPr>
              <a:t>Neutral Color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or earth tones are not seen on most color wheels.  Black, grey, and whites are neutral.  Browns, beige, taupes, and tans are neutral too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"/>
          <p:cNvSpPr/>
          <p:nvPr/>
        </p:nvSpPr>
        <p:spPr>
          <a:xfrm>
            <a:off x="1676520" y="6172200"/>
            <a:ext cx="2057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03dff"/>
                </a:solidFill>
                <a:latin typeface="Comic Sans MS"/>
              </a:rPr>
              <a:t>Claude Monet’s use of cool colou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562720" y="6234120"/>
            <a:ext cx="28191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b800"/>
                </a:solidFill>
                <a:latin typeface="Comic Sans MS"/>
              </a:rPr>
              <a:t>Vincent Van Gogh’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b800"/>
                </a:solidFill>
                <a:latin typeface="Comic Sans MS"/>
              </a:rPr>
              <a:t>use of warm colou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038480" y="4495680"/>
            <a:ext cx="1828800" cy="21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How do these pictures make you feel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How can colour influence a viewe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6870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Tints and Shade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int: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mixture of a colour with white (Also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lled a pastel color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hade: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mixture of a colour with black.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ixing with white increases lightness, while mix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ith black reduces i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ixing with any neutral colour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cluding black and white, reduces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hrome or colourfulness, leaving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ue unchanged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6019920" y="3962520"/>
            <a:ext cx="1885680" cy="1895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8080" y="609480"/>
            <a:ext cx="6870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omplimentary Colou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lours that are opposite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ne another on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colour wheel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4495680" y="2286000"/>
            <a:ext cx="3486240" cy="3724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Tricks of </a:t>
            </a:r>
            <a:r>
              <a:rPr b="1" lang="en-US" sz="4000" spc="-1" strike="noStrike">
                <a:solidFill>
                  <a:srgbClr val="ffef66"/>
                </a:solidFill>
                <a:latin typeface="Comic Sans MS"/>
              </a:rPr>
              <a:t>C</a:t>
            </a:r>
            <a:r>
              <a:rPr b="1" lang="en-US" sz="4000" spc="-1" strike="noStrike">
                <a:solidFill>
                  <a:srgbClr val="703dff"/>
                </a:solidFill>
                <a:latin typeface="Comic Sans MS"/>
              </a:rPr>
              <a:t>o</a:t>
            </a:r>
            <a:r>
              <a:rPr b="1" lang="en-US" sz="4000" spc="-1" strike="noStrike">
                <a:solidFill>
                  <a:srgbClr val="ffb800"/>
                </a:solidFill>
                <a:latin typeface="Comic Sans MS"/>
              </a:rPr>
              <a:t>l</a:t>
            </a:r>
            <a:r>
              <a:rPr b="1" lang="en-US" sz="4000" spc="-1" strike="noStrike">
                <a:solidFill>
                  <a:srgbClr val="990099"/>
                </a:solidFill>
                <a:latin typeface="Comic Sans MS"/>
              </a:rPr>
              <a:t>o</a:t>
            </a:r>
            <a:r>
              <a:rPr b="1" lang="en-US" sz="4000" spc="-1" strike="noStrike">
                <a:solidFill>
                  <a:srgbClr val="00b200"/>
                </a:solidFill>
                <a:latin typeface="Comic Sans MS"/>
              </a:rPr>
              <a:t>u</a:t>
            </a:r>
            <a:r>
              <a:rPr b="1" lang="en-US" sz="4000" spc="-1" strike="noStrike">
                <a:solidFill>
                  <a:srgbClr val="a50d64"/>
                </a:solidFill>
                <a:latin typeface="Comic Sans MS"/>
              </a:rPr>
              <a:t>r</a:t>
            </a: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 to try </a:t>
            </a: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with your Student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2895480" y="1676520"/>
            <a:ext cx="5943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703dff"/>
                </a:solidFill>
                <a:uFillTx/>
                <a:latin typeface="Comic Sans MS"/>
              </a:rPr>
              <a:t>Exercise #1: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ach band of colour seems to shift from light to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ark.  But each band is actually a solid colour!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Why? Colours seem to change when placed next to lighter or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arker colors because of the contrast.  See for yourself,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b200"/>
                </a:solidFill>
                <a:uFillTx/>
                <a:latin typeface="Comic Sans MS"/>
                <a:hlinkClick r:id="rId1"/>
              </a:rPr>
              <a:t>Try this yourself!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703dff"/>
                </a:solidFill>
                <a:uFillTx/>
                <a:latin typeface="Comic Sans MS"/>
              </a:rPr>
              <a:t>Exercise #2: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tare at the black dot, for 15 seconds.  Once the yellow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ircles disappear you should see yellow where the white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paces used to be.  You may even see a faint violet image.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is is an </a:t>
            </a: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after image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of the yellow circles. 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b200"/>
                </a:solidFill>
                <a:uFillTx/>
                <a:latin typeface="Comic Sans MS"/>
                <a:hlinkClick r:id="rId2"/>
              </a:rPr>
              <a:t>Try it yourself!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3"/>
          <a:stretch/>
        </p:blipFill>
        <p:spPr>
          <a:xfrm>
            <a:off x="685800" y="1905120"/>
            <a:ext cx="1981080" cy="304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Comic Sans MS"/>
              </a:rPr>
              <a:t>Let’s Be Creative!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2514600" y="1600200"/>
            <a:ext cx="4194000" cy="5257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9T23:20:31Z</dcterms:created>
  <dc:creator>Marci</dc:creator>
  <dc:description/>
  <dc:language>en-US</dc:language>
  <cp:lastModifiedBy>STU</cp:lastModifiedBy>
  <dcterms:modified xsi:type="dcterms:W3CDTF">2008-06-17T22:33:40Z</dcterms:modified>
  <cp:revision>8</cp:revision>
  <dc:subject/>
  <dc:title>Colour</dc:title>
</cp:coreProperties>
</file>